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AA0-394C-4546-A720-CE921092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79D-DCDB-4AF3-8234-35602232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1ED-2D71-4DF8-A707-99673D00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554-4DA4-42B6-B2F5-55A03D79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D82-ED4F-41B5-A806-6C82453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B66-95E9-4C66-B5E9-7AF68C6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E9E-D489-41B7-9845-5A4BEC43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D82-E96B-4891-A567-36F7905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78B-B3CF-4CB9-9CC8-90A5DF86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496-95B9-4299-B4F8-89F0CFE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C69-0C53-4059-B73F-3823A63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C60-863B-48FE-A236-20425B9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BFDC-82F6-46D9-9050-020133B1C6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Low-cost Extendable Framework for Embedded Smart Ca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curity Syste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process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exibility and portabl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st and comp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security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mized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oID Face Datab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hang Yu, “Research on High Level Model and Performance Estimation” Southeast University PHD thesis, 2007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microcontroller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esko, J., "Winning with wireless," Industry Week, 252(6), Available ProQuest, 200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tainable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Proposed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iagra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efini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Merit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implement image-recognition techniques that can provide the important functions required by advanced intelligent Car Security, to avoid vehicle theft and protect the usage of unauthenticated us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able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t able to predict information if Car was sto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ditional car security systems rely on many sensors and cost a l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ysical K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arm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ach to the owner if some one tries to sto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mated functions through image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rity maintenance by behavior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mobile communication for entire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PS module obtains the precise locality by parsing received GPS sig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43"/>
          <p:cNvGrpSpPr/>
          <p:nvPr/>
        </p:nvGrpSpPr>
        <p:grpSpPr>
          <a:xfrm>
            <a:off x="304920" y="1219320"/>
            <a:ext cx="8610480" cy="5410080"/>
            <a:chOff x="304920" y="1219320"/>
            <a:chExt cx="8610480" cy="5410080"/>
          </a:xfrm>
        </p:grpSpPr>
        <p:sp>
          <p:nvSpPr>
            <p:cNvPr id="52" name="Rounded Rectangle 3"/>
            <p:cNvSpPr/>
            <p:nvPr/>
          </p:nvSpPr>
          <p:spPr>
            <a:xfrm>
              <a:off x="30492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wer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ounded Rectangle 4"/>
            <p:cNvSpPr/>
            <p:nvPr/>
          </p:nvSpPr>
          <p:spPr>
            <a:xfrm>
              <a:off x="2535120" y="2982960"/>
              <a:ext cx="196344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icrocontrol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ounded Rectangle 5"/>
            <p:cNvSpPr/>
            <p:nvPr/>
          </p:nvSpPr>
          <p:spPr>
            <a:xfrm>
              <a:off x="2624040" y="4426200"/>
              <a:ext cx="1874880" cy="96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ounded Rectangle 6"/>
            <p:cNvSpPr/>
            <p:nvPr/>
          </p:nvSpPr>
          <p:spPr>
            <a:xfrm>
              <a:off x="393480" y="434520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gnition Control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ounded Rectangle 7"/>
            <p:cNvSpPr/>
            <p:nvPr/>
          </p:nvSpPr>
          <p:spPr>
            <a:xfrm>
              <a:off x="485640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S2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7443360" y="4425480"/>
              <a:ext cx="134568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"/>
            <p:cNvPicPr/>
            <p:nvPr/>
          </p:nvPicPr>
          <p:blipFill>
            <a:blip r:embed="rId2"/>
            <a:stretch/>
          </p:blipFill>
          <p:spPr>
            <a:xfrm>
              <a:off x="7532640" y="2661840"/>
              <a:ext cx="138276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" descr=""/>
            <p:cNvPicPr/>
            <p:nvPr/>
          </p:nvPicPr>
          <p:blipFill>
            <a:blip r:embed="rId3"/>
            <a:stretch/>
          </p:blipFill>
          <p:spPr>
            <a:xfrm>
              <a:off x="393840" y="5707800"/>
              <a:ext cx="1505520" cy="9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ounded Rectangle 12"/>
            <p:cNvSpPr/>
            <p:nvPr/>
          </p:nvSpPr>
          <p:spPr>
            <a:xfrm>
              <a:off x="2535120" y="170028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S Rece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ounded Rectangle 13"/>
            <p:cNvSpPr/>
            <p:nvPr/>
          </p:nvSpPr>
          <p:spPr>
            <a:xfrm>
              <a:off x="7353360" y="1219320"/>
              <a:ext cx="14284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SM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3338640" y="5707080"/>
              <a:ext cx="1873080" cy="550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558ed5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M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/>
            <p:nvPr/>
          </p:nvCxnSpPr>
          <p:spPr>
            <a:xfrm>
              <a:off x="217800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4" name="Straight Arrow Connector 23"/>
            <p:cNvCxnSpPr/>
            <p:nvPr/>
          </p:nvCxnSpPr>
          <p:spPr>
            <a:xfrm>
              <a:off x="449892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5" name="Straight Arrow Connector 24"/>
            <p:cNvCxnSpPr/>
            <p:nvPr/>
          </p:nvCxnSpPr>
          <p:spPr>
            <a:xfrm>
              <a:off x="6729480" y="3463920"/>
              <a:ext cx="7149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6" name="Straight Arrow Connector 26"/>
            <p:cNvCxnSpPr/>
            <p:nvPr/>
          </p:nvCxnSpPr>
          <p:spPr>
            <a:xfrm flipV="1">
              <a:off x="8067960" y="218088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7" name="Straight Arrow Connector 29"/>
            <p:cNvCxnSpPr/>
            <p:nvPr/>
          </p:nvCxnSpPr>
          <p:spPr>
            <a:xfrm flipH="1">
              <a:off x="3516120" y="3944880"/>
              <a:ext cx="360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8" name="Straight Arrow Connector 31"/>
            <p:cNvCxnSpPr/>
            <p:nvPr/>
          </p:nvCxnSpPr>
          <p:spPr>
            <a:xfrm flipV="1">
              <a:off x="8156880" y="386352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Straight Arrow Connector 33"/>
            <p:cNvCxnSpPr/>
            <p:nvPr/>
          </p:nvCxnSpPr>
          <p:spPr>
            <a:xfrm flipH="1" flipV="1">
              <a:off x="2177280" y="4905000"/>
              <a:ext cx="44676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0" name="Straight Arrow Connector 38"/>
            <p:cNvCxnSpPr/>
            <p:nvPr/>
          </p:nvCxnSpPr>
          <p:spPr>
            <a:xfrm flipH="1">
              <a:off x="3516120" y="2662200"/>
              <a:ext cx="3600" cy="321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1" name="Curved Connector 42"/>
            <p:cNvCxnSpPr/>
            <p:nvPr/>
          </p:nvCxnSpPr>
          <p:spPr>
            <a:xfrm flipV="1">
              <a:off x="2089080" y="6108480"/>
              <a:ext cx="1072080" cy="79920"/>
            </a:xfrm>
            <a:prstGeom prst="curvedConnector5">
              <a:avLst>
                <a:gd name="adj1" fmla="val 49983"/>
                <a:gd name="adj2" fmla="val 49773"/>
                <a:gd name="adj3" fmla="val 49983"/>
              </a:avLst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sists of PC memory unit it stores the different driver imag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DS (face detection subsystem) is used to detect the face of the driver and compare it with the predefined im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image doesn’t match then the information is send to the owner through M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wner can trace the location through G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y this system owner can identify the theft image as well as the location of the ca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ompon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crocontro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wer supp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pad se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SM modu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me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gnition unit | Driver un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Too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il C cross compiler 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lash magic programmer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cad hardware design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6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lab7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bedded 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16:03Z</dcterms:created>
  <dc:creator>Electronics Projects</dc:creator>
  <dc:description>Electronics Projects</dc:description>
  <dc:language>en-US</dc:language>
  <cp:lastModifiedBy>admin</cp:lastModifiedBy>
  <dcterms:modified xsi:type="dcterms:W3CDTF">2011-08-26T11:08:43Z</dcterms:modified>
  <cp:revision>0</cp:revision>
  <dc:subject>Electronics Projects</dc:subject>
  <dc:title>ECE IEEE Projects</dc:title>
</cp:coreProperties>
</file>